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7.png" ContentType="image/png"/>
  <Override PartName="/ppt/media/image4.png" ContentType="image/png"/>
  <Override PartName="/ppt/media/image3.wmf" ContentType="image/x-wmf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E164-E0BA-4D2E-9056-A48CE5F4E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7D2E-6B90-4250-9AA8-AFEE942B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2D8C-BA3C-4206-8766-019D5CE72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2C5F-3A61-475C-8819-C88AC0C43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2EA3-590D-4A7E-90FC-86C48E789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B8EF-3E73-400D-B649-2C7D07C2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D378-3F1A-4EA4-A0C2-8FA58602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AC06-AD7D-4F01-828D-3E7F6B72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8BA9D-60C0-4D71-9041-EFDFE5DE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4E42E-3592-4FE5-BBC0-37392F88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44C1-B927-49AD-A8C0-70266408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7221-5728-49DC-B3B6-A23A23E9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D272-6AC6-4580-9239-424B82A0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1252-814F-448D-9241-CD845EFE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CBAF5-6E43-4F7C-A05C-94790CDF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5DD6-29C2-4FA6-B291-B6F4CF806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09A8-53EF-4E76-9E5A-FE0C5F177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5F3C-3421-4FD6-838E-FBCE78F9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7DB2-FD5D-45D8-89FB-39110EA7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B080-B4FA-4878-B1EA-69BE94D5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28D3-79C0-409A-8F4B-AE7212AD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9E6F-EA04-48C6-A882-2BFCD339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E1A3-8469-4DB1-A1DE-46907554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F148-67CE-4E7D-9E08-7B2ED98D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861C-D1F9-4185-B611-17B6269ECD1A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31A2-9500-4DB7-93F5-35E3DC2F3FF9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mailto:szholop@vati.hu" TargetMode="External"/><Relationship Id="rId2" Type="http://schemas.openxmlformats.org/officeDocument/2006/relationships/hyperlink" Target="http://www.hu-sk.cbc.eu/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 Monitoring és Információs Rendszer</a:t>
            </a: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98989"/>
                </a:solidFill>
                <a:latin typeface="Calibri"/>
              </a:rPr>
              <a:t>A harmadik kiírás online felületének bemutat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zövegdoboz 7"/>
          <p:cNvSpPr/>
          <p:nvPr/>
        </p:nvSpPr>
        <p:spPr>
          <a:xfrm>
            <a:off x="5429160" y="164304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– 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 – 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iválasztás után megjelenik a PARTNERSHIP képernyő, amely három fület tartalmaz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ás (Identific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pviselők (Representativ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Üzleti adatok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 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2"/>
          <a:stretch/>
        </p:blipFill>
        <p:spPr>
          <a:xfrm>
            <a:off x="642960" y="250020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zövegdoboz 7"/>
          <p:cNvSpPr/>
          <p:nvPr/>
        </p:nvSpPr>
        <p:spPr>
          <a:xfrm>
            <a:off x="6357960" y="1643040"/>
            <a:ext cx="2643120" cy="35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zövegdoboz 7"/>
          <p:cNvSpPr/>
          <p:nvPr/>
        </p:nvSpPr>
        <p:spPr>
          <a:xfrm>
            <a:off x="6500880" y="16034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ARTNERSHIP\Business 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zövegdoboz 7"/>
          <p:cNvSpPr/>
          <p:nvPr/>
        </p:nvSpPr>
        <p:spPr>
          <a:xfrm>
            <a:off x="6000840" y="1285920"/>
            <a:ext cx="30002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/Project management experience of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(utolsó lezárt üzleti é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(helyszíne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zövegdoboz 7"/>
          <p:cNvSpPr/>
          <p:nvPr/>
        </p:nvSpPr>
        <p:spPr>
          <a:xfrm>
            <a:off x="5929200" y="1643040"/>
            <a:ext cx="30006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MÓD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Value (érték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escription (leírás)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zövegdoboz 7"/>
          <p:cNvSpPr/>
          <p:nvPr/>
        </p:nvSpPr>
        <p:spPr>
          <a:xfrm>
            <a:off x="5715000" y="1643040"/>
            <a:ext cx="3214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5372280" cy="2233440"/>
          </a:xfrm>
          <a:prstGeom prst="rect">
            <a:avLst/>
          </a:prstGeom>
          <a:ln w="0">
            <a:noFill/>
          </a:ln>
        </p:spPr>
      </p:pic>
      <p:pic>
        <p:nvPicPr>
          <p:cNvPr id="125" name="Szövegdoboz 6" descr=""/>
          <p:cNvPicPr/>
          <p:nvPr/>
        </p:nvPicPr>
        <p:blipFill>
          <a:blip r:embed="rId2"/>
          <a:stretch/>
        </p:blipFill>
        <p:spPr>
          <a:xfrm>
            <a:off x="133200" y="4206960"/>
            <a:ext cx="8913960" cy="16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2"/>
          <a:stretch/>
        </p:blipFill>
        <p:spPr>
          <a:xfrm>
            <a:off x="142920" y="292896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29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eleváns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várható költsé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zövegdoboz 10"/>
          <p:cNvSpPr/>
          <p:nvPr/>
        </p:nvSpPr>
        <p:spPr>
          <a:xfrm>
            <a:off x="6286680" y="142920"/>
            <a:ext cx="2714400" cy="56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első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só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artner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3 költségvetési fü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Source of co-financing of selected part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észletes partneri költségvetési tábláza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Detailed partner budget 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teljes előrejelzése periódusonkén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otal spending forecast for selected partner per perio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5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zövegdoboz 10"/>
          <p:cNvSpPr/>
          <p:nvPr/>
        </p:nvSpPr>
        <p:spPr>
          <a:xfrm>
            <a:off x="6286680" y="164304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servic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4) 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pment cost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"/>
          <p:cNvPicPr/>
          <p:nvPr/>
        </p:nvPicPr>
        <p:blipFill>
          <a:blip r:embed="rId2"/>
          <a:stretch/>
        </p:blipFill>
        <p:spPr>
          <a:xfrm>
            <a:off x="857160" y="3214800"/>
            <a:ext cx="3071880" cy="2068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"/>
          <p:cNvPicPr/>
          <p:nvPr/>
        </p:nvPicPr>
        <p:blipFill>
          <a:blip r:embed="rId3"/>
          <a:stretch/>
        </p:blipFill>
        <p:spPr>
          <a:xfrm>
            <a:off x="1214280" y="4143240"/>
            <a:ext cx="4929480" cy="20574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magánjogi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1"/>
          <a:stretch/>
        </p:blipFill>
        <p:spPr>
          <a:xfrm>
            <a:off x="120600" y="1673280"/>
            <a:ext cx="61642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zövegdoboz 5"/>
          <p:cNvSpPr/>
          <p:nvPr/>
        </p:nvSpPr>
        <p:spPr>
          <a:xfrm>
            <a:off x="428760" y="1344600"/>
            <a:ext cx="771516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Application (pályázati) mod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harmadik kiírás pályázatait az IMIR Front Office Application moduljának segítségével kell összeállítani és benyújta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Papír alapon csak - az eredeti aláírásokkal ellátott – függelék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űrlapot nem szükséges kinyomtatni, továbbá az elektronikus formában elérhető függelékek és egyéb támogató dokumentumok példányai is feltölthetőek a Front Office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modul elérhető a honlapunkon a pályázati kiírás oldalán: </a:t>
            </a:r>
            <a:r>
              <a:rPr b="0" lang="sk-SK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zövegdoboz 10"/>
          <p:cNvSpPr/>
          <p:nvPr/>
        </p:nvSpPr>
        <p:spPr>
          <a:xfrm>
            <a:off x="6286680" y="135720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e feledje, hogy a programban a visszafizetés hosszú, kétszintű folyamat, vagyis 4-5 hónap is eltelhet a kifizetett számlák benyújtásától az ellenőrző testületeknek addig, míg az ERFA támogatás összege kifizetésre kerü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10704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zövegdoboz 10"/>
          <p:cNvSpPr/>
          <p:nvPr/>
        </p:nvSpPr>
        <p:spPr>
          <a:xfrm>
            <a:off x="6286680" y="1214280"/>
            <a:ext cx="271440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áblázat a program által meghatározott mutatókat jeleníti me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odify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datory 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ther tools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3197160" cy="3214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"/>
          <p:cNvPicPr/>
          <p:nvPr/>
        </p:nvPicPr>
        <p:blipFill>
          <a:blip r:embed="rId2"/>
          <a:stretch/>
        </p:blipFill>
        <p:spPr>
          <a:xfrm>
            <a:off x="3000240" y="3429000"/>
            <a:ext cx="56437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ERMI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 (Typ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 (Description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 (Issue dat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 (Valid until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 (ID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65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HECKLI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ANNEX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zövegdoboz 10"/>
          <p:cNvSpPr/>
          <p:nvPr/>
        </p:nvSpPr>
        <p:spPr>
          <a:xfrm>
            <a:off x="6215040" y="1643040"/>
            <a:ext cx="27860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áma (Code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íme (Name),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hogy kötelező-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Mandator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vagy sem, és hogy milyen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satornán (Channel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keresztül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gjelölheti, hogy egy adott mellékletet csatolt/elküldött-e, és ha igen, hány példány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TTACH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zövegdoboz 10"/>
          <p:cNvSpPr/>
          <p:nvPr/>
        </p:nvSpPr>
        <p:spPr>
          <a:xfrm>
            <a:off x="5429160" y="1214280"/>
            <a:ext cx="35719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ttachment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1"/>
          <a:stretch/>
        </p:blipFill>
        <p:spPr>
          <a:xfrm>
            <a:off x="142920" y="1611360"/>
            <a:ext cx="51433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olop Szilvesz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gramme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szholop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hu-sk.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4608720" cy="1714320"/>
          </a:xfrm>
          <a:prstGeom prst="rect">
            <a:avLst/>
          </a:prstGeom>
          <a:ln w="0">
            <a:noFill/>
          </a:ln>
        </p:spPr>
      </p:pic>
      <p:sp>
        <p:nvSpPr>
          <p:cNvPr id="88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2"/>
          <a:srcRect l="31169" t="41029" r="31278" b="40959"/>
          <a:stretch/>
        </p:blipFill>
        <p:spPr>
          <a:xfrm>
            <a:off x="214200" y="428616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90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de megjegyezhető 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mentésre kerül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zövegdoboz 7"/>
          <p:cNvSpPr/>
          <p:nvPr/>
        </p:nvSpPr>
        <p:spPr>
          <a:xfrm>
            <a:off x="5429160" y="1643040"/>
            <a:ext cx="357192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UBMIT – az ellenőrzött és megfelelően kitöltött pályázato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zövegdoboz 7"/>
          <p:cNvSpPr/>
          <p:nvPr/>
        </p:nvSpPr>
        <p:spPr>
          <a:xfrm>
            <a:off x="5429160" y="1643040"/>
            <a:ext cx="3571920" cy="33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VERVIEW – 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HEETS TO FILL IN – leírhatja és részletezheti a tervezett projektet. A táblázat soraihoz úgynevezett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TTACHMETS – dokumentumok feltöltésére és létrehozására szolgá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zövegdoboz 7"/>
          <p:cNvSpPr/>
          <p:nvPr/>
        </p:nvSpPr>
        <p:spPr>
          <a:xfrm>
            <a:off x="5429160" y="1643040"/>
            <a:ext cx="35719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(Megnéz) - 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az adatok szerkesztését vagy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zövegdoboz 7"/>
          <p:cNvSpPr/>
          <p:nvPr/>
        </p:nvSpPr>
        <p:spPr>
          <a:xfrm>
            <a:off x="5429160" y="1643040"/>
            <a:ext cx="35719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- kifejező, de röv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- &gt;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 – 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 – 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olopszilveszter</cp:lastModifiedBy>
  <dcterms:modified xsi:type="dcterms:W3CDTF">2011-01-25T18:45:50Z</dcterms:modified>
  <cp:revision>30</cp:revision>
  <dc:subject/>
  <dc:title>1. dia</dc:title>
</cp:coreProperties>
</file>